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3143F-137E-4991-8601-C4CBD9208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CFF49-BAD7-4FF4-9EB6-684D64C57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F322F-779A-4A1B-9FE2-4957ACFAD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716F9-C710-43AD-85BE-28D3A167A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0019D-5C5F-4C43-A628-B259815613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72802-3676-42E7-8938-CC87072FF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B7E34-0418-4F94-9F0C-608BC36CB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58E0B-FDF5-4C5E-8D82-2BD405688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7580F-A423-48A8-A663-668D9D5DA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5C527-8CD3-41E2-A673-411005A51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B5201-6F33-4134-96B7-F3E3C7B4C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2D083-93AE-4A1B-8B21-DCF9F7DDE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844DF-D589-4D76-87C1-BC726D19A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00F54-90E9-4738-9992-8B63C7C5F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83F01-12DD-4530-85CA-BC5DAFD0C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BC5A5-8BA5-4FE1-A364-2AD861A98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ED115-188B-427D-A3E5-0AAEF9A6E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C5021-D5E1-4255-951F-D96235D8B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048AE-588A-4064-9E4B-3E58B9E60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AB86E-82E6-4DAF-A0A9-BDAD4AAC0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758E8-CF87-4388-A064-3AC7A7512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97E33-40C5-46CE-B8D7-36798AFB6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E672B-4E6F-4BA8-A33A-79855C1BE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E3E9A-1BDA-42C9-8CF3-264919193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6525-908B-4200-86D3-318EA6ABC46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3409-1F77-44AE-9165-EFF9C6F030AD}"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arm-Up Sentences</a:t>
            </a:r>
            <a:endParaRPr b="0" lang="en-US" sz="4400" spc="-1" strike="noStrike">
              <a:solidFill>
                <a:srgbClr val="ffffcc"/>
              </a:solidFill>
              <a:latin typeface="Tahoma"/>
            </a:endParaRPr>
          </a:p>
        </p:txBody>
      </p:sp>
      <p:sp>
        <p:nvSpPr>
          <p:cNvPr id="3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it’s lungs to breathe the walking catfish move overland from one body of water to anoth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osquitos wings beat about 1,000 times a second, the annoying hum comes from it’s beating wing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6858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Journal #31</a:t>
            </a:r>
            <a:endParaRPr b="0" lang="en-US" sz="5400" spc="-1" strike="noStrike">
              <a:solidFill>
                <a:srgbClr val="ffffcc"/>
              </a:solidFill>
              <a:latin typeface="Tahoma"/>
            </a:endParaRPr>
          </a:p>
        </p:txBody>
      </p:sp>
      <p:sp>
        <p:nvSpPr>
          <p:cNvPr id="387" name="PlaceHolder 2"/>
          <p:cNvSpPr>
            <a:spLocks noGrp="1"/>
          </p:cNvSpPr>
          <p:nvPr>
            <p:ph type="subTitle"/>
          </p:nvPr>
        </p:nvSpPr>
        <p:spPr>
          <a:xfrm>
            <a:off x="1371600" y="2362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believe that there is life on other planets?  Why or why no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arm-Up Sentences</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nternet and cyberspace are now as clogged with traffic as most city highways at rush hour and users often experiance major delays in getting information and people are often disapointed by the lack of speedy dependable servi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hnocentrism is an additude whereby people believe that their race, culture class or nation is superior to others when this additude becomes extreme, war can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76176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Journal #32</a:t>
            </a:r>
            <a:endParaRPr b="0" lang="en-US" sz="5400" spc="-1" strike="noStrike">
              <a:solidFill>
                <a:srgbClr val="ffffcc"/>
              </a:solidFill>
              <a:latin typeface="Tahoma"/>
            </a:endParaRPr>
          </a:p>
        </p:txBody>
      </p:sp>
      <p:sp>
        <p:nvSpPr>
          <p:cNvPr id="391" name="PlaceHolder 2"/>
          <p:cNvSpPr>
            <a:spLocks noGrp="1"/>
          </p:cNvSpPr>
          <p:nvPr>
            <p:ph type="subTitle"/>
          </p:nvPr>
        </p:nvSpPr>
        <p:spPr>
          <a:xfrm>
            <a:off x="1219320" y="2438280"/>
            <a:ext cx="6400800" cy="2743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could appear on any TV show, in any movie or book, which one would you want to be on/in?  What character would you be?  What would happ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53352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Friday Warm-up</a:t>
            </a:r>
            <a:endParaRPr b="0" lang="en-US" sz="5400" spc="-1" strike="noStrike">
              <a:solidFill>
                <a:srgbClr val="ffffcc"/>
              </a:solidFill>
              <a:latin typeface="Tahoma"/>
            </a:endParaRPr>
          </a:p>
        </p:txBody>
      </p:sp>
      <p:sp>
        <p:nvSpPr>
          <p:cNvPr id="393" name="PlaceHolder 2"/>
          <p:cNvSpPr>
            <a:spLocks noGrp="1"/>
          </p:cNvSpPr>
          <p:nvPr>
            <p:ph type="subTitle"/>
          </p:nvPr>
        </p:nvSpPr>
        <p:spPr>
          <a:xfrm>
            <a:off x="0" y="1447560"/>
            <a:ext cx="9144000" cy="2361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l together/altogether</a:t>
            </a:r>
            <a:endParaRPr b="0" lang="en-US" sz="24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l together</a:t>
            </a:r>
            <a:r>
              <a:rPr b="0" lang="en-US" sz="2400" spc="-1" strike="noStrike">
                <a:solidFill>
                  <a:srgbClr val="ffffff"/>
                </a:solidFill>
                <a:latin typeface="Tahoma"/>
              </a:rPr>
              <a:t> (phrase) – in a group or collectively</a:t>
            </a:r>
            <a:endParaRPr b="0" lang="en-US" sz="2400" spc="-1" strike="noStrike">
              <a:solidFill>
                <a:srgbClr val="ffffff"/>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 The class was </a:t>
            </a:r>
            <a:r>
              <a:rPr b="0" i="1" lang="en-US" sz="1800" spc="-1" strike="noStrike">
                <a:solidFill>
                  <a:srgbClr val="ffffff"/>
                </a:solidFill>
                <a:latin typeface="Tahoma"/>
              </a:rPr>
              <a:t>all together</a:t>
            </a:r>
            <a:r>
              <a:rPr b="0" lang="en-US" sz="1800" spc="-1" strike="noStrike">
                <a:solidFill>
                  <a:srgbClr val="ffffff"/>
                </a:solidFill>
                <a:latin typeface="Tahoma"/>
              </a:rPr>
              <a:t> for the last pep rally of the year.</a:t>
            </a:r>
            <a:endParaRPr b="0" lang="en-US" sz="1800" spc="-1" strike="noStrike">
              <a:solidFill>
                <a:srgbClr val="ffff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ltogether</a:t>
            </a:r>
            <a:r>
              <a:rPr b="0" lang="en-US" sz="2400" spc="-1" strike="noStrike">
                <a:solidFill>
                  <a:srgbClr val="ffffff"/>
                </a:solidFill>
                <a:latin typeface="Tahoma"/>
              </a:rPr>
              <a:t> (adv) – wholly, entirely, completely, or thoroughly</a:t>
            </a:r>
            <a:endParaRPr b="0" lang="en-US" sz="2400" spc="-1" strike="noStrike">
              <a:solidFill>
                <a:srgbClr val="ffffff"/>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 After one week, it was </a:t>
            </a:r>
            <a:r>
              <a:rPr b="0" i="1" lang="en-US" sz="1800" spc="-1" strike="noStrike">
                <a:solidFill>
                  <a:srgbClr val="ffffff"/>
                </a:solidFill>
                <a:latin typeface="Tahoma"/>
              </a:rPr>
              <a:t>altogether</a:t>
            </a:r>
            <a:r>
              <a:rPr b="0" lang="en-US" sz="1800" spc="-1" strike="noStrike">
                <a:solidFill>
                  <a:srgbClr val="ffffff"/>
                </a:solidFill>
                <a:latin typeface="Tahoma"/>
              </a:rPr>
              <a:t> too late to pass in the written assignment.</a:t>
            </a:r>
            <a:endParaRPr b="0" lang="en-US" sz="1800" spc="-1" strike="noStrike">
              <a:solidFill>
                <a:srgbClr val="ffffff"/>
              </a:solidFill>
              <a:latin typeface="Tahoma"/>
            </a:endParaRPr>
          </a:p>
        </p:txBody>
      </p:sp>
      <p:sp>
        <p:nvSpPr>
          <p:cNvPr id="394" name=""/>
          <p:cNvSpPr/>
          <p:nvPr/>
        </p:nvSpPr>
        <p:spPr>
          <a:xfrm>
            <a:off x="228600" y="3733920"/>
            <a:ext cx="8610480" cy="3003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oose the proper word to make the sentences correct.</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Let’s sing this (all together, altogether) now,” pleaded the choral director.</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The waiting period for college acceptance is (all together, altogether) too long.</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John held the group (all together, altogether) during the crisis.</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Sometimes we get (all together, altogether) too moody and offend others.</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The Student Council was (all together, altogether) too removed from the students’ view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7:00:17Z</dcterms:created>
  <dc:creator>tpagel</dc:creator>
  <dc:description/>
  <dc:language>en-US</dc:language>
  <cp:lastModifiedBy>tpagel</cp:lastModifiedBy>
  <dcterms:modified xsi:type="dcterms:W3CDTF">2010-06-03T17:00:44Z</dcterms:modified>
  <cp:revision>1</cp:revision>
  <dc:subject/>
  <dc:title>Warm-Up Sentences</dc:title>
</cp:coreProperties>
</file>